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ct" ContentType="image/x-pict"/>
  <Override PartName="/ppt/media/image5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0AF7-DDFF-4DE0-94AD-A50CEC3454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B495-00A4-4CF7-A245-5B8B615FFA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6E02-0F46-4ADC-B9BC-C644A059E6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A039-52AF-4BA2-901D-FD2AE67990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C037-4AD7-48D2-A546-D0D7C8F0FE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0921-DBE2-4943-8DB0-741432667F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2AEC-B75E-47EA-96FD-FE7918C0E7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67AE-09D4-49F5-B60A-636A64E257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BC15-EE25-4348-B0AC-F90B66213A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F5AE-9CD8-4FBA-94B8-09C6E0D54B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D057-C369-4430-AE26-25E170D95B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F76-C512-47BD-A8AE-F2266071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5D0-1860-4B41-ADF3-39ECC894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244-FAE2-4102-A59F-FEA1D657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C134-07DD-4404-BC22-907D0290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D432-2F17-43C6-9731-35C140D5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DFBC-0930-484D-9EC7-2EAA3C30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5766-1C99-4A05-A430-23BC0B1F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08F7-0122-406D-AFBE-5C2B8CC4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12A2-6113-4877-8CAE-6D799889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0510-0254-4B81-983F-4257E294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7022-4FF7-42C5-BD35-B771024E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518-7C3D-4BCE-9D4F-8E65AF53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CE9D-304D-4B25-9C6B-5371A925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51CC-2DA9-490A-8E27-0842BDD7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D1EC-0F3B-49F3-B306-90E48A8C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E954-50E2-4AEB-880C-D9A4F322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49BA-A943-4914-A7B9-E287A83E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37F-1379-4608-9B90-95D50264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B247-3818-4403-BAB6-08E68D97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CC2-1423-42D1-AFE5-30604E76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906-2864-4F4E-B507-6A0CCDDA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6A1-BA61-477B-88A7-451A4B1E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A71-62BA-408F-BD6F-4C97BD00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095-1A11-41B8-9F31-38DF884E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EB0F-DCE6-4A89-8B2D-2591F5E4D3FA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93A9-33DC-4661-83D9-ABFA88BE5EE6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dhotscott.co.uk/revision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How did women gain the right to vot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79440" y="3200040"/>
            <a:ext cx="5502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im: 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 revise key details 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bout the battle for 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men’s suffrag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149120" y="6095880"/>
            <a:ext cx="686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evision presentation from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edhotscott.co.uk/revis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4038480" y="2895480"/>
            <a:ext cx="4572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The Suffragett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" name="Picture 8" descr="MCj04040550000[1]"/>
          <p:cNvPicPr/>
          <p:nvPr/>
        </p:nvPicPr>
        <p:blipFill>
          <a:blip r:embed="rId2"/>
          <a:stretch/>
        </p:blipFill>
        <p:spPr>
          <a:xfrm>
            <a:off x="1905120" y="1447920"/>
            <a:ext cx="6095880" cy="4744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mary_poppins"/>
          <p:cNvPicPr/>
          <p:nvPr/>
        </p:nvPicPr>
        <p:blipFill>
          <a:blip r:embed="rId3"/>
          <a:stretch/>
        </p:blipFill>
        <p:spPr>
          <a:xfrm>
            <a:off x="2895480" y="1981080"/>
            <a:ext cx="4143600" cy="3295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3124080" y="4191120"/>
            <a:ext cx="3581640" cy="916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lick here to watch the cl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may take a couple of minutes to down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Reactions to the Suffragett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he next slide shows a cartoon drawn in reaction to the suffragett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at does it show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at does it suggest about the artist’s opinion of suffragette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o do you think drew it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Reactions to the Suffragett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" name="Picture 5" descr="poiger8"/>
          <p:cNvPicPr/>
          <p:nvPr/>
        </p:nvPicPr>
        <p:blipFill>
          <a:blip r:embed="rId2"/>
          <a:srcRect l="0" t="0" r="1004" b="0"/>
          <a:stretch/>
        </p:blipFill>
        <p:spPr>
          <a:xfrm>
            <a:off x="106668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1911 Conciliation Bil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he government promised to “conciliate” (make peace) by introducing votes for wom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t got an enormous majority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but was then dropped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Suffragist respons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y to persuade the Prime Minister to change his min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he Labour Party at the new elec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Organise a march from Carlisle to Lond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Offer free membership to all wom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Suffragette respons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scalated their campaign of violenc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scalated their campaign of violenc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scalated their campaign of violenc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scalated their campaign of violenc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2"/>
          <p:cNvSpPr/>
          <p:nvPr/>
        </p:nvSpPr>
        <p:spPr>
          <a:xfrm>
            <a:off x="3124080" y="22860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Suffragette respons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" name="Picture 5" descr="women21"/>
          <p:cNvPicPr/>
          <p:nvPr/>
        </p:nvPicPr>
        <p:blipFill>
          <a:blip r:embed="rId2"/>
          <a:stretch/>
        </p:blipFill>
        <p:spPr>
          <a:xfrm>
            <a:off x="1066680" y="1371600"/>
            <a:ext cx="1689120" cy="182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prison_1"/>
          <p:cNvPicPr/>
          <p:nvPr/>
        </p:nvPicPr>
        <p:blipFill>
          <a:blip r:embed="rId3"/>
          <a:stretch/>
        </p:blipFill>
        <p:spPr>
          <a:xfrm>
            <a:off x="3352680" y="2895480"/>
            <a:ext cx="2743200" cy="1808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nofood-1"/>
          <p:cNvPicPr/>
          <p:nvPr/>
        </p:nvPicPr>
        <p:blipFill>
          <a:blip r:embed="rId4"/>
          <a:stretch/>
        </p:blipFill>
        <p:spPr>
          <a:xfrm>
            <a:off x="6654960" y="3352680"/>
            <a:ext cx="1946160" cy="2914920"/>
          </a:xfrm>
          <a:prstGeom prst="rect">
            <a:avLst/>
          </a:prstGeom>
          <a:ln w="0">
            <a:noFill/>
          </a:ln>
        </p:spPr>
      </p:pic>
      <p:sp>
        <p:nvSpPr>
          <p:cNvPr id="142" name="Line 10"/>
          <p:cNvSpPr/>
          <p:nvPr/>
        </p:nvSpPr>
        <p:spPr>
          <a:xfrm>
            <a:off x="2057400" y="34290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5334120" y="487692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6" name="Picture 4" descr="Whunger"/>
          <p:cNvPicPr/>
          <p:nvPr/>
        </p:nvPicPr>
        <p:blipFill>
          <a:blip r:embed="rId2"/>
          <a:stretch/>
        </p:blipFill>
        <p:spPr>
          <a:xfrm>
            <a:off x="0" y="158760"/>
            <a:ext cx="9144000" cy="63691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0" y="5851440"/>
            <a:ext cx="7559640" cy="10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rawing of a force-feeding published in the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Suffragett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magazine, 19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609120"/>
            <a:ext cx="3673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The Temporary Discharge of Prisoner’s Act (1913)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This meant that prisoners who were weak from hunger striking could be released from prison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When they were stronger, they were re-arrested and brought back to prison to finish their sentence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9" name="Picture 4" descr="cat"/>
          <p:cNvPicPr/>
          <p:nvPr/>
        </p:nvPicPr>
        <p:blipFill>
          <a:blip r:embed="rId2"/>
          <a:stretch/>
        </p:blipFill>
        <p:spPr>
          <a:xfrm>
            <a:off x="4892760" y="609480"/>
            <a:ext cx="3716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Emily Davis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anted to publicise the suffraget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ied to pin a flag on the King’s horse at the Derby at Epsom racecour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he was killed in the colli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Votes for women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57600" y="2971800"/>
            <a:ext cx="495288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79440" y="1600200"/>
          <a:ext cx="7102440" cy="4648320"/>
        </p:xfrm>
        <a:graphic>
          <a:graphicData uri="http://schemas.openxmlformats.org/drawingml/2006/table">
            <a:tbl>
              <a:tblPr/>
              <a:tblGrid>
                <a:gridCol w="3551400"/>
                <a:gridCol w="35510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guments F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guments Aga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Emily Davis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n extreme protest to martyr herself for the suffragette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 publicity stunt that went terribly wrong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7407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How effective were the suffragette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9440" y="1600200"/>
            <a:ext cx="550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y had raised the public profile of the issue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government only started taking the issue seriously after militancy started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Increasing violence reduced support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Supported the view that women were irrational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If the government gave in to violence here, what other violence might happen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Would Ireland mount violent protests for Home Rule?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7407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How effective were the suffragette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Vote on a scale of 1-1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 in WW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en war broke out, both suffragettes and suffragists suspended their campaigns for the vo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hey began actively trying to recruit men for the arm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ite feather, etc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 more and more men went to war, industry began to suffer a shortage of work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 in WW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n which order did women enter “men’s” job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Munitions factori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omen’s Army Auxiliary Corp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omen’s Land Arm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ffice job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 in WW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n which order did women enter “men’s” job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D.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ffice job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.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Munitions factori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.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omen’s Land Arm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B. Women’s Army Auxiliary Corp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 in WW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men began working in off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ndustry was reluctant at first to take on wom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Did they have the skills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Unions feared that women would be cheaper, and so men would be too expensive when they returne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 in WW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By 1916, the number of industrial workers was despera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More and more munitions and supplies needed at the fron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ess and less men working in factories, because they’d all joined the arm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 in WW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men began working in munitions factori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By the end of the war almost 800,000 women were working in the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y proved they were just as skilled and capable as m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 in WW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 the war went on, more women started to work in “men’s” job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Bus conductors, postal workers, etc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men’s Land Arm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 kind of social revolution was taking plac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’s Campaign Grou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Over the next few pages are statements about the two different women’s campaign group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e if you can remember whether the statement describes the suffragettes or the suffragist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(Some) women get the vote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n 1918 the Representation of the People Act was pas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Older and/or richer women were given the vo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Younger, working-class women may still have been too “radical”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ll women got the vote in 192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2209680" y="1600200"/>
            <a:ext cx="3353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is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et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’s Campaign Grou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95280" y="3200400"/>
            <a:ext cx="5334120" cy="2043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Also called the NUW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(National Union of Women’s Suffrage Socie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2209680" y="2133720"/>
            <a:ext cx="335304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is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et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’s Campaign Grou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95280" y="3200400"/>
            <a:ext cx="5334120" cy="155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Also called the WS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(Women’s Social and Political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209680" y="2133720"/>
            <a:ext cx="335304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is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et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’s Campaign Grou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295280" y="3200400"/>
            <a:ext cx="533412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L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rs Emmeline Pankhu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2209680" y="1600200"/>
            <a:ext cx="3353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is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et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’s Campaign Grou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295280" y="3200400"/>
            <a:ext cx="533412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L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rs Millicent Fawc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2209680" y="1600200"/>
            <a:ext cx="3353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is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et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’s Campaign Grou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95280" y="3200400"/>
            <a:ext cx="533412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Used peaceful campaig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2209680" y="2133720"/>
            <a:ext cx="335304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Women’s Campaign Grou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is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he Suffraget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95280" y="3200400"/>
            <a:ext cx="533412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Used radical and milita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0:07:03Z</dcterms:created>
  <dc:creator>s allsop</dc:creator>
  <dc:description/>
  <cp:keywords/>
  <dc:language>en-US</dc:language>
  <cp:lastModifiedBy>Sue Gregory</cp:lastModifiedBy>
  <dcterms:modified xsi:type="dcterms:W3CDTF">2008-03-22T06:35:23Z</dcterms:modified>
  <cp:revision>183</cp:revision>
  <dc:subject/>
  <dc:title>The Nazis Party in the 1920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